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663-99C5-4DE5-A869-A7F1A707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D7C-9423-43C6-8484-BB923433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4802-DCB1-431B-8CFA-D0C95326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1F4B4-DDBE-4BDD-8BD2-3F93E66C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9F485-F4D2-4501-B81B-495C37F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95FE9-07A9-4263-9570-4F8545B7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13383-7D12-4F4D-8603-D916715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B51A5-6C40-4EA5-A6B6-0253B4D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0F2F-15F1-4AD6-9324-B6A6B58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96069-3EE2-4D35-AC6C-60EBC605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988E6-0E43-4E1E-8715-2F515339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E89E8-2FC6-4D9E-87F2-9EEEF279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66A-F23F-44C7-A84A-07A6AF1E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23F1C-3116-4E3A-A553-6DD8BFC7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6E1A6-51E4-49BA-A1F5-6FB022D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1BA31-BFC4-4937-AFAD-4A9234D3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9E45-1D01-4F28-8C82-9D8783DA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8AC72-15A1-42B9-B2FA-D32DE84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1C814-8777-4F18-A88D-6F92BDE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D0692-B7E5-46F8-BCDA-809B5BA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788DD-E615-4AB6-8463-91B6C1C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14B6B-A546-4D5C-B6D9-3956335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A7994-278B-475A-8DFB-05F5ED27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047-3024-4A2C-9D2A-25987E9D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6E106-C50A-430C-84AA-ED19F93A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609F3-67A2-4E79-A462-18FBDFFA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BC83C-2E0F-40A9-AE40-C84CB575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2D4CF-C91E-4C61-AD69-FD59307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E7F95-522E-4412-AFB6-7BE1002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A588-EEFA-4A7C-A22F-0D1CFC33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D4CB7-8936-4438-96E5-76CD9095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F706-326C-4E9A-95E6-1C52D18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D6AA1-0907-4348-AD7D-6C7C5A3E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BC248-98E6-4E1B-A223-E9249F3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8B8-FC28-4D51-8B39-9F8FDE20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45335-6429-4561-B678-6F1D52D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70FFA-A80D-49D7-810B-3C3E5599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2206-5408-4A46-96E7-C0AB625A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51B34-6C4E-4E5F-9FFD-8155EA7F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0A10B-771B-4BED-86D6-4A4FB095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A3F59-E97D-432C-9F1E-493FD91C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EC318-0853-4B1E-8EAD-B03E5DEA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4258E-D0FE-45B8-A197-319CD1E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F61D1-3F35-484C-AA43-0CBA362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2A304-B349-4E4F-943C-77FFFB09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C5AD-BFB5-4A1B-B672-48A5DC33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52893-843A-4A14-9DC7-A890759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A2156-F7A2-4094-AA4F-EAB9DEF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23F9B-573E-4745-993F-5FBD671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3136F-6325-4370-BDD4-71D161C0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852FA-7C4E-482F-B207-E53D5B59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91235-7D35-441F-913D-FC3C8543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600AA-AA4A-406D-B7C0-A8ED30A4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7D066-625B-49C6-9622-EEA998A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3C525-4A6B-4088-AB1F-21CBD903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A0F70-048D-431E-AC5C-4564F05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EA54-FCFD-455C-9071-85C0E88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5A32A-82FE-4AEA-8E18-5697673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26C03-D791-417C-8D54-39E4C38B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74A7B-8B78-450D-ABC5-0F7E46C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09A67-2101-42F7-9BDA-20E2E65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07DD5-30C7-4230-B320-7C9A04D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F1A4F-F3FE-4C82-A45F-70C513C2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758E5-DDDC-46AB-8906-28E67AD7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72A12-E4D6-4EE5-9821-D3E7F669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11703-FF87-4203-BDBC-E64BD0E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825EA-6C41-4081-A099-62C5B361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3CFD-0F2F-4FA2-BE5B-77797C1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8716C-6BF8-4001-A6B8-1CEA680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A6F4C-B298-423D-B340-6E34B50E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7072D-820D-41B9-934C-2B0B329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2F317-04FB-4115-8DB4-02EAB3F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4EE3E-F4F3-4B9B-AF85-105633E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2846A-30AC-4222-B311-7ABC163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0D49A-CBA6-46FE-AB0C-BA2B68B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98E01-BE12-4EFA-B286-89E3B11A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27BDC-9711-4EFA-B914-BBE8CCE3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9DF94-A437-4620-9569-9979428E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75C3-E5ED-4813-8B15-4833F871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B5EA3-4813-4EB9-971A-8EC526E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B8E92-8BA9-4FAE-9749-1FE71307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67D8B-CCE3-4F94-B217-D5B2133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B9EF1-9848-4BA4-9C01-699810FD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AC7F2-8D81-44BA-B598-13F567CD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71D9D-A6EC-4282-877E-B78CE8E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14727-015A-4319-8D36-DB74ADE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D597E-F5F1-43BA-8AFE-23526EC4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4D7E9-C824-424D-884F-99A269A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0000E-A5CC-4CA1-9315-C4C943F4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CE66-1DD2-4893-A495-B3482C2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F637C-618B-4F0C-8025-E574E5AA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8A3A4-3E11-49E2-876A-5207E1AF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53F88-FA0E-417C-AC4F-F9E1B5B3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DECD4-8E58-4013-AC90-EBEA1949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39E3F-3B8B-435F-B172-3C06CA75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1EDC6-DCF5-42E7-BCE3-F6E31F1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E4A7C-8507-4EC1-A8E1-0A3C4F41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EE94A-01E1-4F40-981D-68CA5D1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E3596-F6CB-4D57-823B-A8C42BB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80642-F45D-4A33-BF99-4F94EBF2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F110-E8EF-45FE-A8E7-33B4EA9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88B5D-87C7-4549-8184-9D20845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3E9D1-502A-4ACB-AC14-8E649051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F1768-5A9E-4A24-9980-580E39B7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347DB-B3DF-4CDD-9927-5C6B5EE2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72204-DE20-45FD-B102-628DA3B1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40BD5-0E67-480F-8235-3825AD6A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5BDA8-545A-4D90-A999-5B279D35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F4E8C-4C69-423D-BD3E-4F25EB9F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B85E8-7F5B-44D9-9454-96F373B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25037-20DC-4B42-A9BF-5D5EBF6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8FB-FA91-433D-AAA3-DF4C1A20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977-F6BF-44AF-9236-B1ED466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C9696-89A5-4F77-AEE1-BD8E830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8D577-1DC2-4995-8684-669A280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5F59C-6282-4E29-BD5F-ACE135B8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4857A-861C-463A-AE73-8D924D69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C28CE-E224-484F-BBC2-E9A66667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907A0-9640-4BEE-BD0B-5D0CDA08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CDCCB-87A7-43C5-87FD-D0CBC03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7CF96-7B7E-4467-BCC7-51A8508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3E484-DBF0-494B-AEDB-B86CB40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E2E37-4163-4632-92BC-B2A00F27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602E-F160-42ED-83BE-CD3E7B9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62142-E591-47EB-A61D-4E2D01AE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87E32-0DB2-41E6-A707-1F04C515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26581-D94A-4371-87E0-6380EAA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52914-5B01-4E70-9B11-C162338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1F032-3873-4387-A44D-6A3E79F4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68BA2-6051-4583-95C3-027D7F99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4DF58-B090-462B-8B73-67CD0565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42F663-BEEB-4BC1-A34E-646A0F31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41B83-E760-4E21-92AB-A8B4328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00AB5-5A2E-4706-A38B-3DC22A2C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015-3F81-4BF6-A28F-B73B1329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CF727-90BD-482C-998B-52E7373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63D93-98E2-4618-9BB7-9C9F0338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DF5CB-CE1F-4D20-BA34-706F057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0BF4C-3045-4C87-A094-6F5E3EB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995F2-A4EB-4A20-8963-43900E9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5A260-DA14-455E-8B3E-60A33568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16DF1-1111-4107-9746-A6CE6C61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2A7B0-FF57-4616-AB3C-924A2518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ED553-414F-40CD-9E0B-117A6EDE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0185E-D1B1-4410-8C82-ED036F0C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F52D-DD71-42C5-B021-D0152944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1C722-D450-4BA6-8C86-1FC722B3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3D077-C86E-4BB6-AC95-642D6EE0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D9E78-3866-4925-BA62-3495ECD7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9ACF3-35B2-4664-9875-5879C2A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97B54-DCD2-47CA-891F-9B146B5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8F359-A45F-4634-8DC2-0EB6612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595EB-74DD-4EDA-B1D9-F6864D5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235FC-9247-4DD6-BDBD-9B957AF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F5FB9-3DCF-4134-91FE-BF5BE2C4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5F5DB-B1B1-47C4-9A4E-B3E82142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2E82-A1B3-4940-87B6-AB66C533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634F0-C3F7-4F38-B4B8-9290C53B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0CD50-0E82-4A46-BA37-1600AC1A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76BF1-5B1B-4EFA-AABC-553F701F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99A89-734D-4478-B369-9F9D7B3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A52BE-BDC1-4161-9872-6946DF4A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F2F5E-C924-4515-8601-FEEB05ED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39398-460E-428F-A37E-8561F191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59081-198C-480D-869B-17210FF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049B7-750B-4B31-A235-E5945FC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80C6E-B0C2-4C31-B52A-1D151E0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8074-F9B6-4237-937D-9ABF48DF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FAC51-D703-4649-8C8D-3D8C2AF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DE8F4B-58D9-4EB0-89C4-FE79A55E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7D174-037F-4760-B838-7187FB4C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56434-7D51-4C7A-A51E-2105BFA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D0B7AA-E196-4FCE-87D9-5A938644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F248C-7C7B-4146-8C84-D310CD26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DB3DC-5D0A-4007-9A75-9D33A4C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9BE31-71A1-4540-BDA4-DF30629C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712491-3D57-439C-BD99-B95370A6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07D55-C65F-4D98-9551-1EC24CD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8601-F828-44A8-94E3-ADD61098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AD525B-DA0C-4D1A-9308-18EAC54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A6427-B119-4DBF-BF21-C293338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A9F70E-0513-4534-A961-43E42EB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3DBD7-D643-4332-8D3D-B98C542F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B78F4-203D-4964-93FB-5B77BE1A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26BCF8-50A8-4389-940E-29AF895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98746F-5A3D-4157-8571-F44B7E39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72E018-4DF9-4B60-9B5A-78F8588D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F11855-57A9-4B78-A04A-ADB189B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291503-5B8C-468D-B51C-EF9685B4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9489-48EF-43FA-A5CD-20E95D9D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080AF-B227-42BB-A9F5-06A1908B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81F76-8352-410E-9701-B7E759F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1AE9F6-9017-4B1E-B5DF-4C136056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2EA59-EA54-46FE-AA18-B230FF4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E27E7-0204-4DC2-B1EF-CAF642CA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DF2639-6168-42BD-8028-F710336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651168-06DF-4D4D-B15D-26A4B451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2CC0-9FBD-4D3D-9FC1-41266147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DEAD-FF33-4F67-B259-4230E9F1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356-1CAC-403B-BC78-2584C3F8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EF59-09F3-4ECD-819B-2916D87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126A-88E0-4F3E-BD87-EBCC45A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C8D6-7A00-466A-95BB-967D697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19AF-E628-48F1-A38F-6A0A205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5D1E-8A01-4962-A55C-D58C37A2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E369-0DAD-4327-A601-4E21AE44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0BCD-AAA8-48EF-95BE-0DAD0328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4F9F-81B9-4745-A16D-E5DAD103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F58B-DBB8-4C95-B92D-F6748CE0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5012-7A96-492B-957B-0EC6C9A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AC8-987F-40A9-9AB3-63FD93FE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178C-B201-4D91-A481-2B11F02E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C344-F8FF-48B8-B64B-A36DB148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97DE-28E0-4A5B-BCE2-AADF0AC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1D8B-E036-4EB5-917B-71A8D1A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E4C3-8ACC-4BCD-808C-0A7FBBD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1409-EAC5-4B83-AD42-7956452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77A6-26AD-491A-A07E-520D4E9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4EF1-55AB-4380-90DA-621A7A52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D4E9-CD8B-48AA-8605-4F29F6C1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66455-C831-44CF-92A4-74F2234F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383-5D7F-4ACE-AC24-14F0A1DE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8E4E-B7F9-4C35-8B32-7B4B144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CF6B7-78DA-4A4E-8AEA-D4C46396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BA3A1-7DD0-45E6-919D-6D0FAA67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AA8A-C4DB-4C8B-ADC5-B7BBE18A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9C90-E069-4EFF-A1A9-2520834D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D8DF-7EEC-4C10-A1E0-D4B3D2B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D4A3-2F4F-4CC9-9592-F3574A3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B084-585F-4A13-AA8A-95325D2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B160-F6F9-4417-83F9-5B864D2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B1A6-5586-4776-AF2A-0312F878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4CE-7828-463E-927C-058A323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EC49-6500-4FC9-83B0-6811DB70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D02A-E5B1-43E9-A714-41971B5C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A6C0D-1E16-4613-A6AF-0A8D7611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B272-5AFC-4D90-BCFD-422A8AD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1D96-BCD1-4450-837C-D356EE6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20A7-8B38-46AC-8F41-FF427B83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1057-5A45-4CEE-8A45-CF02FB6A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4FDF-AA99-4913-8AA3-FF2FC15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3B4C-D4BE-4737-8CC0-BFD42486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437A-B819-4E42-9CCC-CC02EB7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D0A-3FB6-4AC2-B83F-FF57502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9727-F3A4-47B7-B345-723FC4B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31F5-D4C7-4DE7-A1C6-B93AB454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499C-8F37-4EB0-A342-FDAA308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4EFD0-5A45-4B06-9FAE-EF41112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71CF-C682-4289-A519-D54CE388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175F-E21A-49B4-9669-B9A1A57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53199-A392-45BC-B1E1-812045F0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0D0EA-7B98-4E2E-B656-0828D3B6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1C7E9-4C32-41C0-93E5-56E979E7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0F543-BCBD-49C5-BA98-F602CF4D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EDB-ED8C-49A3-99FD-4AA702EF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91E2-247C-4E29-9077-12C714B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5C7D-CC22-4019-BC41-8975B96E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7DC8-3DC4-4AA5-9044-750A101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DD546-44E3-431A-983D-2A1D09BD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C442-2ACD-4B8B-9220-2385F201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67028-29FB-422D-A9C0-F7681C69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6C39-FB60-431F-A5ED-D12985B2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4AD0-A99C-4159-A1B3-EBFA0EE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C1490-D747-49B8-BF3D-4742D6DB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A394D-CA3C-4D66-A867-2A094E63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1DA-FA46-4510-81E8-16E0215B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4247F-A162-4100-8CE5-FD9CA3F7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51FBE-C7ED-4D3B-B7BD-F3DE81A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6340B-EECB-46A8-B5EE-3BBBD59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49D8-142B-42D7-B9AD-4C3ACA9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33B22-6772-4ACF-950E-061DE930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23033-0BA3-4FDC-A7D1-8D312B2D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36818-D99C-4CC0-8064-AA3794CC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A640E-5DBC-4A45-8D39-39CE3797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DC38F-6409-4549-992D-AA07086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05D58-953F-4477-B561-FCBA6266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451-E2AE-48B8-A670-2790C73904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99DF-01C4-46DF-9054-182239BD9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B59-E27A-41B8-AEE3-8199184E9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596B-B456-4875-9E70-9B7391E22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0B3-786F-491F-87A0-E44A46A66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D776-A71A-408D-945E-63B5A84E9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070-2199-4CCB-968C-EB5E3D75D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7D08-65B6-476F-B3F7-F827153D34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EF3-F65C-449F-81E4-D6AD00D854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A94-C8C2-4283-86DF-BABA72EDF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F95F-7449-4240-888A-9D52904B1A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6FBF-7CAE-41DF-94A9-35050732D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901-1FD3-4135-B540-E3F179818E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DAF5-219C-43C4-867D-899A9A1B8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A7D7-4416-45F2-913E-E4E8E1A0D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740-2600-49F7-889A-E2B7986D4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4311-52A8-4240-B989-B4919B859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FB02-B41C-4D58-A9F4-CB62B087A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1CBF-6063-49FD-B179-8702F213C0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71C8-20F0-4E66-83D1-7D303EAB7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7B7-FF40-4571-8006-FCEC3C01B9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7CD-FED4-43B3-A3A1-E36646DADB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C2D-0ED4-4DF9-9D53-15AC750FC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4CD-08FB-47E3-ABDF-8A3E10EE3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902A-3EC9-444C-B524-2E3667F05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CDB7-10CB-415C-9C9A-AD42D0348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E78-B059-40BE-A41B-01F77F84E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4907-092B-4DB1-B0DE-D5D2F943D5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2803-C6F6-49A4-A9F2-A0B25168D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51D3-666E-45C3-9EA7-D45782C572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C34-F397-4FB5-B55B-4ADA01117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942-4813-4C3F-BE2C-9BEF5F26D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935-D5F5-4C4A-B9E6-4D12CAE129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6EF6-D6AE-4442-ADE6-7A15CFB05B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64E9-ADBD-4631-8166-8ABC9FE89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E658-6125-47A4-9BFC-505A922A0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C2A-0689-4819-9388-B613F5935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9BF-9100-4350-8429-A6519BF6E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5C43-E981-404A-A553-2376CA481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D75-E830-4BB3-809D-5FF2382B4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4EA5-5898-4581-B49B-924C9902B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676F-D749-4213-9C2D-A62450CEB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6160" y="2776680"/>
            <a:ext cx="87501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38040" y="792000"/>
            <a:ext cx="8467920" cy="5886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55156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19640" y="416412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616800" y="4164120"/>
            <a:ext cx="1612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300720" y="544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307120" y="589104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276720" y="17002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6153" descr=""/>
          <p:cNvPicPr/>
          <p:nvPr/>
        </p:nvPicPr>
        <p:blipFill>
          <a:blip r:embed="rId9"/>
          <a:stretch/>
        </p:blipFill>
        <p:spPr>
          <a:xfrm>
            <a:off x="1158840" y="2319480"/>
            <a:ext cx="3124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38120" y="104760"/>
            <a:ext cx="8267760" cy="664848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7170" descr=""/>
          <p:cNvPicPr/>
          <p:nvPr/>
        </p:nvPicPr>
        <p:blipFill>
          <a:blip r:embed="rId2"/>
          <a:stretch/>
        </p:blipFill>
        <p:spPr>
          <a:xfrm>
            <a:off x="1549440" y="2550960"/>
            <a:ext cx="1942920" cy="2419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364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3132000" y="184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5148360" y="59198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71440" y="936720"/>
            <a:ext cx="8601120" cy="53244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411280" y="5473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580000" y="2695680"/>
            <a:ext cx="2592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66720" y="1195560"/>
            <a:ext cx="7810560" cy="44668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2951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600120" y="909720"/>
            <a:ext cx="7943760" cy="5038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348000" y="18730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76800" y="2492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192800" y="18018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895320" y="1114560"/>
            <a:ext cx="7353360" cy="4628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384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3262320" y="1125360"/>
            <a:ext cx="1886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52280" y="628560"/>
            <a:ext cx="8839440" cy="6077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979640" y="42642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203640" y="55450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3564000" y="599292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320760" y="803160"/>
            <a:ext cx="8696160" cy="5972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43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00000" y="440856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460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